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425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5DE3409-451D-4877-9121-03B87510841C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orning and thank you for the introduc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of the presentation is to describe different grid scheduling infrastructures that can be deployed using Globus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distributed approach is suited for … comprising resources that could be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ain advantages of this kind of infrastructures is the …. That allow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distributed approach is suited for … comprising resources that could be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ain advantages of this kind of infrastructures is the …. That allow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igh la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igh through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w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w though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distributed approach is suited for … comprising resources that could be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ain advantages of this kind of infrastructures is the …. That allow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distributed approach is suited for … comprising resources that could be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ain advantages of this kind of infrastructures is the …. That allow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ime for questions. Comments, sugges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response of enterprise resources - and therefore less usage of EGEE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ents of the presentation ar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will briefly describe the basic resources that make up a grid computing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we will describe the grid middleware a s the software layer to integrate heterogeneous computational platforms that could belong to different administrative dom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wo sections are an introduction to the main part of the presentation: a  proposal of taxonomy for grid computing infra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know the goal of existing parallel and distributed computing platforms. The efficien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find two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C .. tnd H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of HPC i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-per-use model like gas water or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-per-use model like gas water or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-per-use model like gas water or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disseminate all system monitoring information--&gt; can be aggreg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distributed approach is suited for … comprising resources that could be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enefits of this appro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 allows the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vid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ain advantages of this kind of infrastructures is the …. That allow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2160" indent="0"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bed &amp;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Way interfacing GT WS UCM local grid and Grid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GateWay virtualizing resources from a partner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ion VO from EGEE - GT pr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6200" y="0"/>
            <a:ext cx="831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46200" y="0"/>
            <a:ext cx="831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0" y="381960"/>
            <a:ext cx="9144000" cy="42840"/>
          </a:xfrm>
          <a:prstGeom prst="rect">
            <a:avLst/>
          </a:prstGeom>
          <a:gradFill rotWithShape="0">
            <a:gsLst>
              <a:gs pos="0">
                <a:srgbClr val="32425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47640" cy="6858000"/>
          </a:xfrm>
          <a:prstGeom prst="rect">
            <a:avLst/>
          </a:prstGeom>
          <a:solidFill>
            <a:srgbClr val="32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72000" y="658188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91E9-F050-481D-808C-210DDE95B3A1}" type="slidenum">
              <a:rPr b="1" lang="es-ES" sz="1400" spc="-1" strike="noStrike">
                <a:solidFill>
                  <a:srgbClr val="32425d"/>
                </a:solidFill>
                <a:latin typeface="Arial"/>
              </a:rPr>
              <a:t>&lt;number&gt;</a:t>
            </a:fld>
            <a:r>
              <a:rPr b="1" lang="es-ES" sz="1400" spc="-1" strike="noStrike">
                <a:solidFill>
                  <a:srgbClr val="32425d"/>
                </a:solidFill>
                <a:latin typeface="Arial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-22778" b="7285"/>
          <a:stretch/>
        </p:blipFill>
        <p:spPr>
          <a:xfrm>
            <a:off x="60480" y="5921280"/>
            <a:ext cx="623880" cy="747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-39240" y="6657840"/>
            <a:ext cx="73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SA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541440" indent="-18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18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73240" indent="-92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425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098920" y="65390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9528-6478-4832-A916-23F74A7B789B}" type="slidenum">
              <a:rPr b="1" lang="es-ES" sz="1400" spc="-1" strike="noStrike">
                <a:solidFill>
                  <a:srgbClr val="32425d"/>
                </a:solidFill>
                <a:latin typeface="Arial"/>
              </a:rPr>
              <a:t>&lt;number&gt;</a:t>
            </a:fld>
            <a:r>
              <a:rPr b="1" lang="es-ES" sz="1400" spc="-1" strike="noStrike">
                <a:solidFill>
                  <a:srgbClr val="32425d"/>
                </a:solidFill>
                <a:latin typeface="Arial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1" marL="3603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810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5096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6509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6509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inova@fdi.ucm.es" TargetMode="External"/><Relationship Id="rId2" Type="http://schemas.openxmlformats.org/officeDocument/2006/relationships/hyperlink" Target="mailto:tinova@fdi.ucm.es" TargetMode="External"/><Relationship Id="rId3" Type="http://schemas.openxmlformats.org/officeDocument/2006/relationships/hyperlink" Target="mailto:tinova@fdi.ucm.es" TargetMode="External"/><Relationship Id="rId4" Type="http://schemas.openxmlformats.org/officeDocument/2006/relationships/hyperlink" Target="mailto:tinova@fdi.ucm.es" TargetMode="External"/><Relationship Id="rId5" Type="http://schemas.openxmlformats.org/officeDocument/2006/relationships/hyperlink" Target="mailto:tinova@fdi.ucm.es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4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371600"/>
            <a:ext cx="8686800" cy="2057400"/>
          </a:xfrm>
          <a:prstGeom prst="roundRect">
            <a:avLst>
              <a:gd name="adj" fmla="val 12495"/>
            </a:avLst>
          </a:prstGeom>
          <a:solidFill>
            <a:srgbClr val="324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33480" y="2587680"/>
            <a:ext cx="1544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uro-Par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nnes,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gust 29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5120" y="3652920"/>
            <a:ext cx="4697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Tino       Vázquez              (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inova@fdi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cm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s</a:t>
            </a: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32425d"/>
                </a:solidFill>
                <a:latin typeface="Arial"/>
              </a:rPr>
              <a:t>Eduardo Hue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32425d"/>
                </a:solidFill>
                <a:latin typeface="Arial"/>
              </a:rPr>
              <a:t>Rubén    S. Mont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600" spc="-1" strike="noStrike">
                <a:solidFill>
                  <a:srgbClr val="32425d"/>
                </a:solidFill>
                <a:latin typeface="Arial"/>
              </a:rPr>
              <a:t>Ignacio   M. Llo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Distributed Systems Architectur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</a:rPr>
              <a:t>Universidad Complutense de Mad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rcRect l="0" t="0" r="0" b="22989"/>
          <a:stretch/>
        </p:blipFill>
        <p:spPr>
          <a:xfrm>
            <a:off x="914400" y="4038480"/>
            <a:ext cx="990720" cy="1211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61760" y="1676520"/>
            <a:ext cx="72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on of a Utility Computing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d on the Federation of Grid Infrastructur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rcRect l="0" t="0" r="87775" b="3486"/>
          <a:stretch/>
        </p:blipFill>
        <p:spPr>
          <a:xfrm>
            <a:off x="7543800" y="411480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2311560" y="5918040"/>
            <a:ext cx="45464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1360" y="121932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- distributed calculation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al time = 10 seconds per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 staging = 10K per ta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xperiments of 100 tasks 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EG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idGateWay resource provisioning from EG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oughput of the whole testbed - tasks running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ly accessed In house resources (UCM gr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GEE accesed through Grid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1960" y="60480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Enterprise Grid resource provision from a Partne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5. Experiment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360" y="121932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063"/>
              </a:spcBef>
              <a:spcAft>
                <a:spcPts val="10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rect access to EGEE vs GridGateWay resource provisioning from EGE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= 284.8 jobs/hour vs GGW = 253.9 jobs/hour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loss = 10.85 % (with a 10 seconds tas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1960" y="60480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Enterprise Grid resource provision from a Partne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5. Experiment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004160" cy="43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1360" y="1219320"/>
            <a:ext cx="79167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- Throughput of the whole testb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47.5 jobs/hour, of whi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house 170.3 jobs/hour vs Partner 181.4 jobs/h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1960" y="60480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Enterprise Grid resource provision from a Partne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5. Experiment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5438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1360" y="145908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that meets requir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t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form, secure and reliable functionality to access the u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lable, flexible and adaptive infrastructure to provide the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ution based on standards and gradually deplo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results are promising - about 10% overhead for short tas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fore, better % of overhead for long-running tasks ex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7800" y="60480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Achiev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6. Conclusion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1360" y="145908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new functionality to Grid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scheduling policies for enterprise, partner and utility grid infra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and certificate management 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lling and computational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ing components to reduce latency and increase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policies to reduce total execution time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oughp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ership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7800" y="60480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6. Conclusion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065480" y="616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69236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or your attention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8120" y="50760"/>
            <a:ext cx="8137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81280" y="3787920"/>
            <a:ext cx="1892520" cy="185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1360" y="1219320"/>
            <a:ext cx="79167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- Throughput of the whole testb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8.16  jobs/hour, of whi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house 297.96 jobs/hour vs Partner 121.65 jobs/h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60480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Enterprise Grid resource provision from a Partne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Experiment PDP 2007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19320" y="2473200"/>
            <a:ext cx="7319880" cy="45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7488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Content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719280"/>
            <a:ext cx="76359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ty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ty Grid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idGateWa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11360" y="990720"/>
            <a:ext cx="8272440" cy="66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olution for Utility Compu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ased on grid fed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n be deployed on any Globus Toolkit based infrastructur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 is achieved u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t of Globus Toolkit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ridWay metaschedu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 so benefiting fr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andard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1. Objective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11360" y="990720"/>
            <a:ext cx="8272440" cy="60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rvice provisioning model which will provid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aptive,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lexible and simp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ces to computing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ables a pay-per-use 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duce fixed costs (IT becomes variable co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ccess to unlimited computational capac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roves flexibility - resource provision becom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re ag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re adapti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2. Utility Computing 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11360" y="990720"/>
            <a:ext cx="8272440" cy="63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se of GT services to recursively interface services available in a federated Globus based gri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set of GT services hosting a GridWay Metaschedul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ridGateW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e proposed Grid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terprise Grid - access to a utility servic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ridGateWay - manages an outsourced gr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ridGateWay 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irtualiz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nderliying gr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cess transparent for the end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3. Utility Grid Infrastructures 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11360" y="990720"/>
            <a:ext cx="8272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4. GridGateWay Architecture 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044720"/>
            <a:ext cx="8077320" cy="48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1360" y="1143000"/>
            <a:ext cx="7916760" cy="57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r Adapter - to be able to send jobs to GW via 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r Event generator - for job state change not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r Information provider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eed MDS with scheduling inform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Globus firewal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certificate mapping policies at each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ing process divided different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need to disseminate all system monitoring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 a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any GT-compatible third party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W stacks (GT preWS/WS, gLite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7800" y="60480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Key Asp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4. GridGateWay Architecture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145908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b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single resource with GRAM and Fork access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ly from Grid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ough a GridGateWay from Grid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- /bin/ec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file staging (appart from stdio strea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GRAM overhead in GridGateWay and Fork resource = 6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ing overhead (due to different sched inter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 machine = 15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idGateWay  =  5 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ce between direct execution and GGW = 11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7800" y="604800"/>
            <a:ext cx="6137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Overhead of GGW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5. Experiment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33240" y="395280"/>
            <a:ext cx="813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1360" y="1219320"/>
            <a:ext cx="7916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93600" indent="-9360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843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1960" y="604800"/>
            <a:ext cx="81248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</a:rPr>
              <a:t>Enterprise Grid resource provision from a Partne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9720" y="1044720"/>
            <a:ext cx="8035920" cy="0"/>
          </a:xfrm>
          <a:prstGeom prst="line">
            <a:avLst/>
          </a:prstGeom>
          <a:ln w="9360">
            <a:solidFill>
              <a:srgbClr val="32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1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</a:rPr>
              <a:t>5. Experiments</a:t>
            </a:r>
            <a:endParaRPr b="1" lang="en-US" sz="2400" spc="-1" strike="noStrike">
              <a:solidFill>
                <a:srgbClr val="32425d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23320" cy="524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Office 2004 Test Drive User</cp:lastModifiedBy>
  <dcterms:modified xsi:type="dcterms:W3CDTF">2007-08-29T09:22:52Z</dcterms:modified>
  <cp:revision>12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014763</vt:r8>
  </property>
  <property fmtid="{D5CDD505-2E9C-101B-9397-08002B2CF9AE}" pid="3" name="_AuthorEmail">
    <vt:lpwstr>llorente@dacya.ucm.es</vt:lpwstr>
  </property>
  <property fmtid="{D5CDD505-2E9C-101B-9397-08002B2CF9AE}" pid="4" name="_AuthorEmailDisplayName">
    <vt:lpwstr>Ignacio Martin Llorente</vt:lpwstr>
  </property>
  <property fmtid="{D5CDD505-2E9C-101B-9397-08002B2CF9AE}" pid="5" name="_EmailSubject">
    <vt:lpwstr>Comentario de Ian Foster y Formato Transparencias</vt:lpwstr>
  </property>
  <property fmtid="{D5CDD505-2E9C-101B-9397-08002B2CF9AE}" pid="6" name="_NewReviewCycle">
    <vt:lpwstr/>
  </property>
</Properties>
</file>